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8B3F3-C620-4296-9EE0-D0AC43A96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9106-3D59-4139-AAD1-2D3F58B5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B8D0B-C327-4056-AC01-7AFE6D1E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AB34-13EC-459F-8121-2353063A4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2E3BD-4361-46EF-847C-5633BF713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D83AF-0880-4D71-AA34-7C7A5A445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50537-63D0-4A02-B133-442A04CF7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E9F6A-CB8E-407C-9EAA-2B798420A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9922C-5803-4013-BE3A-E5576636F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4B03F-A4B7-4441-A93E-B42D89077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8D021-8B19-4BBD-AF24-3EF598BB2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A233-3008-4A8F-8465-32C0DA8C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E6540-98A0-4494-9DC2-60AF3ED7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0E01D-9802-4C2F-A629-CFCF6815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94B81-7E7B-421F-8E50-E6DA48751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0FDAA-0975-4694-953B-6D797B85E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F695A-F6DF-4896-A47D-F70E0E8E4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688E5-5B9E-4C42-A608-E0D0B298E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19E90-9932-49E0-BF90-4C96CB752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C83A0-65A0-43BB-A3F3-DA9559FA4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3EB30-946A-45A4-B710-654150B70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D933F-2468-4D34-A908-8574ADFA5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0CC7C-E1F4-4326-8E78-CC48BBFF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B6675-EFD8-4688-A206-557CCA7A7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40C2F-1C97-4A02-B312-EE91EEDBF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A62B6-741A-4BBE-8919-51D4F3DA7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824D3-78CE-4EB9-A3B6-B5B1B0CAA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9FD98-053A-49FB-B211-3B5682893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862DDA-0EB1-4D65-80F1-2FAC312F7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EEAC6-1332-4D14-833A-C58318B26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BFA09-1708-410C-BC2A-9A39727F3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AD1F5-BC49-46E1-A5A6-8E5259E1F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430AA-CDEF-483D-B68A-C2953209CF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69A4-BA44-4465-A696-7474E6BE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FBB5E-23C9-4479-8591-F42D78FFE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328D4-2331-4670-8E64-11F6288F9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B2B3F-975E-4376-BB97-AE5984A03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881F6-EBE9-40C9-88CD-F1A82A912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F614C-1454-4D99-9D06-3E57D9710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68A77-DE71-4F6C-AA8F-8F51B9A8C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3F237-0478-475F-A9DA-BCB35DEFB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1AEF0-520D-4C9C-8A41-0E70E7AE3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ED1374-DD28-4562-8B4B-DABF390D96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F43BC9-1FA0-4E62-81D1-4A51F6319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D774-02EB-4CA4-9C4F-76C2F4FEA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847FE-91E7-445C-AEE6-2CD198C26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FE9CC-8171-46DF-B6A3-448D09ECF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9EA066-12B3-4A88-B973-091DC98B1A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BC54A-F0ED-4FEA-BC3F-389229535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9DBE84-A5A6-4F48-ADC5-7CFCD85A8F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A1C3E-EBC4-4259-BFF8-54F3EB19D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A786A-B719-45E7-AA8C-691F9D319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5E0CA-2B0C-4000-9987-776F15039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5B0ED-4897-47C0-A0BC-F73515FC5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C935A7-1E2D-4790-B96A-022B171D2E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60659-B864-43BE-BFFB-39EF9279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ED64A9-9C8C-47D6-BC99-E5C4DE579C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C741C-28D0-4E3A-9FA9-0B776D861D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7089B-9F93-4759-8021-F81486471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90CCF-B7F6-4F20-AD1F-FACB50A06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8D0645-AE19-4CD3-AD27-A4F2EEB1C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FAE6D-6A96-44F5-B275-40205E246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3CA62-187E-4768-A136-414FCF92A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417EC-341B-4900-AC24-E2F76B1BD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EB004-E73B-47CA-9F85-D3925755A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C0821-EDF0-4F5C-82AC-E2FC069E0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ED83-DCE8-4571-8026-CFA7A130C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B8328-D8D6-42AB-AB35-38E7CC8B7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3CD8A4-CEFE-4ACB-9C93-07885FF23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6871D7-49EE-4812-BB77-24A5AC127B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DA38-65AD-4CBF-B2AD-D0A6733A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B5BF-3D83-42B1-B3C6-A49BC1DC2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2C1C-0193-4C27-A2EA-5A40A7C54AD9}"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66D5-2C3F-49D7-B323-FF152C7BD85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F713-718C-46C2-89F0-1C6AF055601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59AE-0DF0-44CA-82D3-F22C342D6345}"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FB2-2D35-44B9-9353-6822DFEA99FC}"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6A75-E06F-4DC4-8103-44B93B79B27F}"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ix Steps to Develop a Compelling, Novel Idea </a:t>
            </a:r>
            <a:r>
              <a:rPr b="0" lang="en-US" sz="1300" spc="-1" strike="noStrike">
                <a:solidFill>
                  <a:srgbClr val="ffffff"/>
                </a:solidFill>
                <a:latin typeface="Franklin Gothic Book"/>
              </a:rPr>
              <a:t>(Russell and Morrison)</a:t>
            </a:r>
            <a:endParaRPr b="0" lang="en-US" sz="13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 the proble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ect and analyze backgroun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eliminary idea</a:t>
            </a:r>
            <a:endParaRPr b="0" lang="en-US" sz="3000" spc="-1" strike="noStrike">
              <a:solidFill>
                <a:srgbClr val="ffffff"/>
              </a:solidFill>
              <a:latin typeface="Arial"/>
            </a:endParaRPr>
          </a:p>
          <a:p>
            <a:pPr marL="419040" indent="-382680">
              <a:spcBef>
                <a:spcPts val="4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the idea’s potential </a:t>
            </a:r>
            <a:r>
              <a:rPr b="0" lang="en-US" sz="1800" spc="-1" strike="noStrike">
                <a:solidFill>
                  <a:srgbClr val="ffffff"/>
                </a:solidFill>
                <a:latin typeface="Arial"/>
              </a:rPr>
              <a:t>(modify if necessary)</a:t>
            </a:r>
            <a:endParaRPr b="0" lang="en-US" sz="18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k constructive criticism from knowledgeable colleagu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ine the idea to maximize its potential impact on your fie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Summary/Abstract</a:t>
            </a: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ost important section of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may be all that is read and usually the first thing rea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hould frame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clear, brief, and use plain Englis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be written la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t be enthusiastic to develop suppor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bstract/Summary Checklist</a:t>
            </a:r>
            <a:endParaRPr b="0" lang="en-US" sz="4600" spc="-1" strike="noStrike">
              <a:solidFill>
                <a:srgbClr val="ffffff"/>
              </a:solidFill>
              <a:latin typeface="Franklin Gothic Book"/>
            </a:endParaRPr>
          </a:p>
        </p:txBody>
      </p:sp>
      <p:sp>
        <p:nvSpPr>
          <p:cNvPr id="276" name=""/>
          <p:cNvSpPr txBox="1"/>
          <p:nvPr/>
        </p:nvSpPr>
        <p:spPr>
          <a:xfrm>
            <a:off x="457200" y="1295280"/>
            <a:ext cx="8229600" cy="453096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ngs at the beginning</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the grant applicant</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credibility</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problem</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objective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method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otal cost, funds already obtained, amount requested in the proposal</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brief</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clear</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interesting and enthusia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1219320"/>
            <a:ext cx="5257800" cy="27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Introduction:</a:t>
            </a:r>
            <a:endParaRPr b="0" lang="en-US" sz="4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you describe the qualifications for funding.</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What to put in the Introduction</a:t>
            </a:r>
            <a:endParaRPr b="0" lang="en-US" sz="41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how, </a:t>
            </a:r>
            <a:r>
              <a:rPr b="0" lang="en-US" sz="2200" spc="-1" strike="noStrike">
                <a:solidFill>
                  <a:srgbClr val="ffffff"/>
                </a:solidFill>
                <a:latin typeface="Arial"/>
              </a:rPr>
              <a:t>and</a:t>
            </a:r>
            <a:r>
              <a:rPr b="1" lang="en-US" sz="2200" spc="-1" strike="noStrike">
                <a:solidFill>
                  <a:srgbClr val="ffffff"/>
                </a:solidFill>
                <a:latin typeface="Arial"/>
              </a:rPr>
              <a:t> why </a:t>
            </a:r>
            <a:r>
              <a:rPr b="0" lang="en-US" sz="2200" spc="-1" strike="noStrike">
                <a:solidFill>
                  <a:srgbClr val="ffffff"/>
                </a:solidFill>
                <a:latin typeface="Arial"/>
              </a:rPr>
              <a:t>the organization was started</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ement of </a:t>
            </a:r>
            <a:r>
              <a:rPr b="1" lang="en-US" sz="2200" spc="-1" strike="noStrike">
                <a:solidFill>
                  <a:srgbClr val="ffffff"/>
                </a:solidFill>
                <a:latin typeface="Arial"/>
              </a:rPr>
              <a:t>purpose, goals, </a:t>
            </a:r>
            <a:r>
              <a:rPr b="0" lang="en-US" sz="2200" spc="-1" strike="noStrike">
                <a:solidFill>
                  <a:srgbClr val="ffffff"/>
                </a:solidFill>
                <a:latin typeface="Arial"/>
              </a:rPr>
              <a:t>and</a:t>
            </a:r>
            <a:r>
              <a:rPr b="1" lang="en-US" sz="2200" spc="-1" strike="noStrike">
                <a:solidFill>
                  <a:srgbClr val="ffffff"/>
                </a:solidFill>
                <a:latin typeface="Arial"/>
              </a:rPr>
              <a:t> philosoph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events in </a:t>
            </a:r>
            <a:r>
              <a:rPr b="1" lang="en-US" sz="2200" spc="-1" strike="noStrike">
                <a:solidFill>
                  <a:srgbClr val="ffffff"/>
                </a:solidFill>
                <a:latin typeface="Arial"/>
              </a:rPr>
              <a:t>histor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 and current activities</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complishments </a:t>
            </a:r>
            <a:r>
              <a:rPr b="0" lang="en-US" sz="2200" spc="-1" strike="noStrike">
                <a:solidFill>
                  <a:srgbClr val="ffffff"/>
                </a:solidFill>
                <a:latin typeface="Arial"/>
              </a:rPr>
              <a:t>and impact</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ze</a:t>
            </a:r>
            <a:r>
              <a:rPr b="0" lang="en-US" sz="2200" spc="-1" strike="noStrike">
                <a:solidFill>
                  <a:srgbClr val="ffffff"/>
                </a:solidFill>
                <a:latin typeface="Arial"/>
              </a:rPr>
              <a:t> and </a:t>
            </a:r>
            <a:r>
              <a:rPr b="1" lang="en-US" sz="2200" spc="-1" strike="noStrike">
                <a:solidFill>
                  <a:srgbClr val="ffffff"/>
                </a:solidFill>
                <a:latin typeface="Arial"/>
              </a:rPr>
              <a:t>characteristics</a:t>
            </a:r>
            <a:r>
              <a:rPr b="0" lang="en-US" sz="2200" spc="-1" strike="noStrike">
                <a:solidFill>
                  <a:srgbClr val="ffffff"/>
                </a:solidFill>
                <a:latin typeface="Arial"/>
              </a:rPr>
              <a:t> of your constituency</a:t>
            </a:r>
            <a:endParaRPr b="0" lang="en-US" sz="2200" spc="-1" strike="noStrike">
              <a:solidFill>
                <a:srgbClr val="ffffff"/>
              </a:solidFill>
              <a:latin typeface="Arial"/>
            </a:endParaRPr>
          </a:p>
        </p:txBody>
      </p:sp>
      <p:sp>
        <p:nvSpPr>
          <p:cNvPr id="280"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ring agenci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ding sourc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 of internal or external evaluation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otes from letters of support</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itations received to provide testimony on legislation</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ortant agency publications</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ncept of balance</a:t>
            </a:r>
            <a:endParaRPr b="0" lang="en-US" sz="4600" spc="-1" strike="noStrike">
              <a:solidFill>
                <a:srgbClr val="ffffff"/>
              </a:solidFill>
              <a:latin typeface="Franklin Gothic Book"/>
            </a:endParaRPr>
          </a:p>
        </p:txBody>
      </p:sp>
      <p:sp>
        <p:nvSpPr>
          <p:cNvPr id="282" name=""/>
          <p:cNvSpPr txBox="1"/>
          <p:nvPr/>
        </p:nvSpPr>
        <p:spPr>
          <a:xfrm>
            <a:off x="457200" y="1600200"/>
            <a:ext cx="7772400" cy="4525920"/>
          </a:xfrm>
          <a:prstGeom prst="rect">
            <a:avLst/>
          </a:prstGeom>
          <a:noFill/>
          <a:ln w="0">
            <a:noFill/>
          </a:ln>
        </p:spPr>
        <p:txBody>
          <a:bodyPr anchor="t">
            <a:normAutofit/>
          </a:bodyPr>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istics          vs. </a:t>
            </a:r>
            <a:r>
              <a:rPr b="0" lang="en-US" sz="3600" spc="-1" strike="noStrike">
                <a:solidFill>
                  <a:srgbClr val="ffffff"/>
                </a:solidFill>
                <a:latin typeface="Arial"/>
              </a:rPr>
              <a:t>	</a:t>
            </a:r>
            <a:r>
              <a:rPr b="0" lang="en-US" sz="3600" spc="-1" strike="noStrike">
                <a:solidFill>
                  <a:srgbClr val="ffffff"/>
                </a:solidFill>
                <a:latin typeface="Arial"/>
              </a:rPr>
              <a:t>Quotes</a:t>
            </a:r>
            <a:endParaRPr b="0" lang="en-US" sz="3600" spc="-1" strike="noStrike">
              <a:solidFill>
                <a:srgbClr val="ffffff"/>
              </a:solidFill>
              <a:latin typeface="Arial"/>
            </a:endParaRPr>
          </a:p>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ent support  vs.  Expert opinion</a:t>
            </a:r>
            <a:endParaRPr b="0" lang="en-US" sz="36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thering Information</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colleagues, advisory board members, students, partner organizations to make one statement of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in your staff meeting who might have current credibility informatio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tatistics and human interes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credibility evidence of any partners</a:t>
            </a:r>
            <a:endParaRPr b="0" lang="en-US" sz="28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of support and endorsement (</a:t>
            </a:r>
            <a:r>
              <a:rPr b="0" lang="en-US" sz="2000" spc="-1" strike="noStrike">
                <a:solidFill>
                  <a:srgbClr val="ffffff"/>
                </a:solidFill>
                <a:latin typeface="Arial"/>
              </a:rPr>
              <a:t>make sure the letters are truly supportive, draw powerful quotes from endorsements)</a:t>
            </a:r>
            <a:endParaRPr b="0" lang="en-US" sz="20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the Introduction Readable</a:t>
            </a:r>
            <a:endParaRPr b="0" lang="en-US" sz="41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enmesh reader in the intricacies of organizational structur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dwell on philosophy</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rce may think you’re all thought, no action)</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list every grant you’ve ever receiv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t>
            </a:r>
            <a:r>
              <a:rPr b="0" lang="en-US" sz="2000" spc="-1" strike="noStrike">
                <a:solidFill>
                  <a:srgbClr val="ffffff"/>
                </a:solidFill>
                <a:latin typeface="Arial"/>
              </a:rPr>
              <a:t>source may think you’re more interested in getting grants than helping people)</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data</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quote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Focus on your Credibility for this Funding</a:t>
            </a:r>
            <a:endParaRPr b="0" lang="en-US" sz="4000" spc="-1" strike="noStrike">
              <a:solidFill>
                <a:srgbClr val="ffffff"/>
              </a:solidFill>
              <a:latin typeface="Franklin Gothic Book"/>
            </a:endParaRPr>
          </a:p>
        </p:txBody>
      </p:sp>
      <p:sp>
        <p:nvSpPr>
          <p:cNvPr id="288" name=""/>
          <p:cNvSpPr txBox="1"/>
          <p:nvPr/>
        </p:nvSpPr>
        <p:spPr>
          <a:xfrm>
            <a:off x="457200" y="2819160"/>
            <a:ext cx="8229600" cy="327636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ive the reviewer some reason to believe you are capabl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a case of your ability to accomplish your purpos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void Unsupported Assumptions</a:t>
            </a:r>
            <a:endParaRPr b="0" lang="en-US" sz="40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nothing of the applicant agenc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of the community served</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of cause and effect between the relationship and the events presented in the proposal</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such as “we believe” without evidence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nough evidence to support your position but do not overkill</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minar Goal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rity of goal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development of tangibl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knowledge in the program area</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program evalua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financial management</a:t>
            </a:r>
            <a:endParaRPr b="0" lang="en-US" sz="3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12189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artner Organization?</a:t>
            </a:r>
            <a:endParaRPr b="0" lang="en-US" sz="4600" spc="-1" strike="noStrike">
              <a:solidFill>
                <a:srgbClr val="ffffff"/>
              </a:solidFill>
              <a:latin typeface="Franklin Gothic Book"/>
            </a:endParaRPr>
          </a:p>
        </p:txBody>
      </p:sp>
      <p:sp>
        <p:nvSpPr>
          <p:cNvPr id="292" name=""/>
          <p:cNvSpPr txBox="1"/>
          <p:nvPr/>
        </p:nvSpPr>
        <p:spPr>
          <a:xfrm>
            <a:off x="304920" y="2895120"/>
            <a:ext cx="8229600" cy="266724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 of the credibility of the partner organiz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ch a letter from the partner organization guaranteeing its role in the program</a:t>
            </a:r>
            <a:endParaRPr b="0"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990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ters of Support and Endorsement</a:t>
            </a:r>
            <a:endParaRPr b="0" lang="en-US" sz="4000" spc="-1" strike="noStrike">
              <a:solidFill>
                <a:srgbClr val="ffffff"/>
              </a:solidFill>
              <a:latin typeface="Franklin Gothic Book"/>
            </a:endParaRPr>
          </a:p>
        </p:txBody>
      </p:sp>
      <p:sp>
        <p:nvSpPr>
          <p:cNvPr id="294" name=""/>
          <p:cNvSpPr txBox="1"/>
          <p:nvPr/>
        </p:nvSpPr>
        <p:spPr>
          <a:xfrm>
            <a:off x="457200" y="2514240"/>
            <a:ext cx="8229600" cy="34290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the number</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sure they are truly supportiv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werful quotes should be drawn from endorsements and introduced into the body of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posal Introduction</a:t>
            </a:r>
            <a:endParaRPr b="0" lang="en-US" sz="4100" spc="-1" strike="noStrike">
              <a:solidFill>
                <a:srgbClr val="ffffff"/>
              </a:solidFill>
              <a:latin typeface="Franklin Gothic Book"/>
            </a:endParaRPr>
          </a:p>
        </p:txBody>
      </p:sp>
      <p:sp>
        <p:nvSpPr>
          <p:cNvPr id="296"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establishes who is applying for fund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pplicant agency purpose and goal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gency program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lients or constituent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teresting</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free of jargon</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brief</a:t>
            </a:r>
            <a:endParaRPr b="0" lang="en-US" sz="2400" spc="-1" strike="noStrike">
              <a:solidFill>
                <a:srgbClr val="ffffff"/>
              </a:solidFill>
              <a:latin typeface="Arial"/>
            </a:endParaRPr>
          </a:p>
        </p:txBody>
      </p:sp>
      <p:sp>
        <p:nvSpPr>
          <p:cNvPr id="297"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evidence of accomplishmen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istic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ements and/or endorsement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credibility in program area in which funds are sough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ds logically to problem statement</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91404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Problem Statement or Needs Assessment</a:t>
            </a:r>
            <a:endParaRPr b="0" lang="en-US" sz="4100" spc="-1" strike="noStrike">
              <a:solidFill>
                <a:srgbClr val="ffffff"/>
              </a:solidFill>
              <a:latin typeface="Franklin Gothic Book"/>
            </a:endParaRPr>
          </a:p>
        </p:txBody>
      </p:sp>
      <p:sp>
        <p:nvSpPr>
          <p:cNvPr id="299" name=""/>
          <p:cNvSpPr txBox="1"/>
          <p:nvPr/>
        </p:nvSpPr>
        <p:spPr>
          <a:xfrm>
            <a:off x="533520" y="2743200"/>
            <a:ext cx="8229600" cy="220968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 statement or needs assessment is the most critical part of your plan.  It represents the reason behind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Basic requirements of problem</a:t>
            </a:r>
            <a:endParaRPr b="0" lang="en-US" sz="4100" spc="-1" strike="noStrike">
              <a:solidFill>
                <a:srgbClr val="ffffff"/>
              </a:solidFill>
              <a:latin typeface="Franklin Gothic Book"/>
            </a:endParaRPr>
          </a:p>
        </p:txBody>
      </p:sp>
      <p:sp>
        <p:nvSpPr>
          <p:cNvPr id="301" name=""/>
          <p:cNvSpPr txBox="1"/>
          <p:nvPr/>
        </p:nvSpPr>
        <p:spPr>
          <a:xfrm>
            <a:off x="457200" y="1447920"/>
            <a:ext cx="8229600" cy="495288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ly related to the purposes and goals of your organiz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evidence drawn from your experiences, from statistics provided by authoritative sources and/or from the testimony of persons and organizations known to be knowledgeable about the situ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dimensions (can be done over the course of the gra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d in terms of clients or constituents rather than the needs or problems of OSU or departme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ocumenting the Problem/Needs Statement</a:t>
            </a:r>
            <a:endParaRPr b="0" lang="en-US" sz="41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differentiate between a situation of national scope and the situation as it exists in your communit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shed record of hearings before congressional committees are a good source and often little us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t it in community context</a:t>
            </a:r>
            <a:endParaRPr b="0" lang="en-US" sz="3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blem/Needs Statement</a:t>
            </a:r>
            <a:endParaRPr b="0" lang="en-US" sz="4100" spc="-1" strike="noStrike">
              <a:solidFill>
                <a:srgbClr val="ffffff"/>
              </a:solidFill>
              <a:latin typeface="Franklin Gothic Book"/>
            </a:endParaRPr>
          </a:p>
        </p:txBody>
      </p:sp>
      <p:sp>
        <p:nvSpPr>
          <p:cNvPr id="30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ates to purposes and goals of organizati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f reasonable dimens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upported by statistical evidenc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tated in terms of clients or beneficiarie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not the “lack of a method” (unless the method is infallibl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make assumpt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use jarg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interesting to read</a:t>
            </a:r>
            <a:endParaRPr b="0" lang="en-US" sz="2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are Outcomes?</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dicate the extent to which methods and strategies result in the desired changes in people and the community.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 do not measure inputs, processes, or methods. Instead, they measure the extent to which a strategy is reaching its objective." </a:t>
            </a:r>
            <a:r>
              <a:rPr b="0" lang="en-US" sz="2400" spc="-1" strike="noStrike">
                <a:solidFill>
                  <a:srgbClr val="000000"/>
                </a:solidFill>
                <a:latin typeface="Arial"/>
              </a:rPr>
              <a:t>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s/Objectives</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useful, outcomes should tell...  </a:t>
            </a:r>
            <a:endParaRPr b="0" lang="en-US" sz="2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o</a:t>
            </a:r>
            <a:r>
              <a:rPr b="0" lang="en-US" sz="2400" spc="-1" strike="noStrike">
                <a:solidFill>
                  <a:srgbClr val="ffffff"/>
                </a:solidFill>
                <a:latin typeface="Arial"/>
              </a:rPr>
              <a:t> </a:t>
            </a:r>
            <a:r>
              <a:rPr b="0" lang="en-US" sz="2000" spc="-1" strike="noStrike">
                <a:solidFill>
                  <a:srgbClr val="ffffff"/>
                </a:solidFill>
                <a:latin typeface="Arial"/>
              </a:rPr>
              <a:t>(individual, neighborhood, target population)</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is doing </a:t>
            </a:r>
            <a:r>
              <a:rPr b="1" lang="en-US" sz="2400" spc="-1" strike="noStrike">
                <a:solidFill>
                  <a:srgbClr val="f07f09"/>
                </a:solidFill>
                <a:latin typeface="Arial"/>
              </a:rPr>
              <a:t>what</a:t>
            </a:r>
            <a:r>
              <a:rPr b="0" lang="en-US" sz="2400" spc="-1" strike="noStrike">
                <a:solidFill>
                  <a:srgbClr val="ffffff"/>
                </a:solidFill>
                <a:latin typeface="Arial"/>
              </a:rPr>
              <a:t> </a:t>
            </a:r>
            <a:r>
              <a:rPr b="0" lang="en-US" sz="2000" spc="-1" strike="noStrike">
                <a:solidFill>
                  <a:srgbClr val="ffffff"/>
                </a:solidFill>
                <a:latin typeface="Arial"/>
              </a:rPr>
              <a:t>(change in condition, behavior)</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en</a:t>
            </a:r>
            <a:r>
              <a:rPr b="0" lang="en-US" sz="2400" spc="-1" strike="noStrike">
                <a:solidFill>
                  <a:srgbClr val="ffffff"/>
                </a:solidFill>
                <a:latin typeface="Arial"/>
              </a:rPr>
              <a:t> </a:t>
            </a:r>
            <a:r>
              <a:rPr b="0" lang="en-US" sz="2000" spc="-1" strike="noStrike">
                <a:solidFill>
                  <a:srgbClr val="ffffff"/>
                </a:solidFill>
                <a:latin typeface="Arial"/>
              </a:rPr>
              <a:t>(change occurs by this specific d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how</a:t>
            </a:r>
            <a:r>
              <a:rPr b="0" lang="en-US" sz="2400" spc="-1" strike="noStrike">
                <a:solidFill>
                  <a:srgbClr val="f07f09"/>
                </a:solidFill>
                <a:latin typeface="Arial"/>
              </a:rPr>
              <a:t> </a:t>
            </a:r>
            <a:r>
              <a:rPr b="0" lang="en-US" sz="2400" spc="-1" strike="noStrike">
                <a:solidFill>
                  <a:srgbClr val="ffffff"/>
                </a:solidFill>
                <a:latin typeface="Arial"/>
              </a:rPr>
              <a:t>that change is measured </a:t>
            </a:r>
            <a:r>
              <a:rPr b="0" lang="en-US" sz="2000" spc="-1" strike="noStrike">
                <a:solidFill>
                  <a:srgbClr val="ffffff"/>
                </a:solidFill>
                <a:latin typeface="Arial"/>
              </a:rPr>
              <a:t>(what data shows changed condition or behavior</a:t>
            </a:r>
            <a:r>
              <a:rPr b="0" lang="en-US" sz="2400" spc="-1" strike="noStrike">
                <a:solidFill>
                  <a:srgbClr val="ffffff"/>
                </a:solidFill>
                <a:latin typeface="Arial"/>
              </a:rPr>
              <a:t>)</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to Consider</a:t>
            </a: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ctivities will you undertake to solve the problem or address the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r proposed activities the best way--most effective, cost efficient, most equitable--to solve this problem or address this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other potential solutions have you considered? Why did you reject those</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lution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ill result from your activiti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posal Development Components</a:t>
            </a:r>
            <a:endParaRPr b="0" lang="en-US" sz="3600" spc="-1" strike="noStrike">
              <a:solidFill>
                <a:srgbClr val="ffffff"/>
              </a:solidFill>
              <a:latin typeface="Franklin Gothic Book"/>
            </a:endParaRPr>
          </a:p>
        </p:txBody>
      </p:sp>
      <p:sp>
        <p:nvSpPr>
          <p:cNvPr id="25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bstract: </a:t>
            </a:r>
            <a:r>
              <a:rPr b="0" lang="en-US" sz="1400" spc="-1" strike="noStrike">
                <a:solidFill>
                  <a:srgbClr val="ffffff"/>
                </a:solidFill>
                <a:latin typeface="Arial"/>
              </a:rPr>
              <a:t>Clearly and Concisely summarizes the request</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Introduction: </a:t>
            </a:r>
            <a:r>
              <a:rPr b="0" lang="en-US" sz="1400" spc="-1" strike="noStrike">
                <a:solidFill>
                  <a:srgbClr val="ffffff"/>
                </a:solidFill>
                <a:latin typeface="Arial"/>
              </a:rPr>
              <a:t>Describes the agency’s qualifications or “credibility”</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Problem Statement/Needs Assessment: </a:t>
            </a:r>
            <a:r>
              <a:rPr b="0" lang="en-US" sz="1400" spc="-1" strike="noStrike">
                <a:solidFill>
                  <a:srgbClr val="ffffff"/>
                </a:solidFill>
                <a:latin typeface="Arial"/>
              </a:rPr>
              <a:t>Documents the need to be met or problems to be solved by the proposed funding</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  Objectives: </a:t>
            </a:r>
            <a:r>
              <a:rPr b="0" lang="en-US" sz="1400" spc="-1" strike="noStrike">
                <a:solidFill>
                  <a:srgbClr val="ffffff"/>
                </a:solidFill>
                <a:latin typeface="Arial"/>
              </a:rPr>
              <a:t>Establishes the benefits of the funding in measurable term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ods: </a:t>
            </a:r>
            <a:r>
              <a:rPr b="0" lang="en-US" sz="1400" spc="-1" strike="noStrike">
                <a:solidFill>
                  <a:srgbClr val="ffffff"/>
                </a:solidFill>
                <a:latin typeface="Arial"/>
              </a:rPr>
              <a:t>Describes the activities to be employed to achieve the desired result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Evaluation: </a:t>
            </a:r>
            <a:r>
              <a:rPr b="0" lang="en-US" sz="1400" spc="-1" strike="noStrike">
                <a:solidFill>
                  <a:srgbClr val="ffffff"/>
                </a:solidFill>
                <a:latin typeface="Arial"/>
              </a:rPr>
              <a:t>Presents a plan for determining the degree to which objectives are met and methods are followed</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I.  Budget: </a:t>
            </a:r>
            <a:r>
              <a:rPr b="0" lang="en-US" sz="1400" spc="-1" strike="noStrike">
                <a:solidFill>
                  <a:srgbClr val="ffffff"/>
                </a:solidFill>
                <a:latin typeface="Arial"/>
              </a:rPr>
              <a:t>Clearly delineates costs to be met by the funding source and those to be provided by the applicant or other parties</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cont.</a:t>
            </a:r>
            <a:endParaRPr b="0" lang="en-US" sz="4600" spc="-1" strike="noStrike">
              <a:solidFill>
                <a:srgbClr val="ffffff"/>
              </a:solidFill>
              <a:latin typeface="Franklin Gothic Book"/>
            </a:endParaRPr>
          </a:p>
        </p:txBody>
      </p:sp>
      <p:sp>
        <p:nvSpPr>
          <p:cNvPr id="314" name=""/>
          <p:cNvSpPr txBox="1"/>
          <p:nvPr/>
        </p:nvSpPr>
        <p:spPr>
          <a:xfrm>
            <a:off x="685800" y="1676520"/>
            <a:ext cx="7772400" cy="457200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plan of work over the life of the proposed project? What will be done and when?</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he proposed work be broken down into tasks and sub-tasks? How do the tasks and sub-tasks relate to each other?</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ethods or means will you use to carry out the tasks and sub-tasks? Why have you chosen these methods and means of carrying out your activiti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schedule of work or project time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cess (task or behavioral) Objectives</a:t>
            </a:r>
            <a:endParaRPr b="0" lang="en-US" sz="3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o often, grant seekers confuse </a:t>
            </a:r>
            <a:r>
              <a:rPr b="0" i="1" lang="en-US" sz="3000" spc="-1" strike="noStrike">
                <a:solidFill>
                  <a:srgbClr val="ffffff"/>
                </a:solidFill>
                <a:latin typeface="Arial"/>
              </a:rPr>
              <a:t>means </a:t>
            </a:r>
            <a:r>
              <a:rPr b="0" lang="en-US" sz="3000" spc="-1" strike="noStrike">
                <a:solidFill>
                  <a:srgbClr val="ffffff"/>
                </a:solidFill>
                <a:latin typeface="Arial"/>
              </a:rPr>
              <a:t>and</a:t>
            </a:r>
            <a:r>
              <a:rPr b="0" i="1" lang="en-US" sz="3000" spc="-1" strike="noStrike">
                <a:solidFill>
                  <a:srgbClr val="ffffff"/>
                </a:solidFill>
                <a:latin typeface="Arial"/>
              </a:rPr>
              <a:t> en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ans are metho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ds are objectives.</a:t>
            </a:r>
            <a:endParaRPr b="0"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ans and Ends</a:t>
            </a:r>
            <a:endParaRPr b="0" lang="en-US" sz="4600" spc="-1" strike="noStrike">
              <a:solidFill>
                <a:srgbClr val="ffffff"/>
              </a:solidFill>
              <a:latin typeface="Franklin Gothic Book"/>
            </a:endParaRPr>
          </a:p>
        </p:txBody>
      </p:sp>
      <p:sp>
        <p:nvSpPr>
          <p:cNvPr id="318" name=""/>
          <p:cNvSpPr txBox="1"/>
          <p:nvPr/>
        </p:nvSpPr>
        <p:spPr>
          <a:xfrm>
            <a:off x="380520" y="1523880"/>
            <a:ext cx="403884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s begin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provid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establish</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reate</a:t>
            </a:r>
            <a:endParaRPr b="0" lang="en-US" sz="2600" spc="-1" strike="noStrike">
              <a:solidFill>
                <a:srgbClr val="ffffff"/>
              </a:solidFill>
              <a:latin typeface="Arial"/>
            </a:endParaRPr>
          </a:p>
        </p:txBody>
      </p:sp>
      <p:sp>
        <p:nvSpPr>
          <p:cNvPr id="319"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ives start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increas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crease </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duce</a:t>
            </a:r>
            <a:endParaRPr b="0" lang="en-US" sz="2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Objective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problem-related outcomes of your program</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describe your method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s the population serve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es the time when the objectives will be me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the objectives in numerical terms, if at all possible.</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hods/Narrative</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the needs and problems have been described and objectives stated, the next step is to spell out the methods by which you propose to achieve thos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erms methods, methodology, activities, procedures, or strategies may be used (describes the steps to be taken to achieve the desired results.)</a:t>
            </a:r>
            <a:endParaRPr b="0"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precisel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you propose to do</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you propose to do i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results you expect to obtain and what they will mean to the overall projec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might go wrong</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lternative approaches will be used to cope with potential problem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e the narrative according to the specific objectives, with one section for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ote an equal number of pages to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an organized presentation forma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ver exceed the number of pages estimated for this sec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Methods</a:t>
            </a:r>
            <a:endParaRPr b="0" lang="en-US" sz="46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ws naturally from problems and objectiv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early describes program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reasons for selection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equence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taffing of program</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clients and client selection</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s a reasonable scope of activities that can be accomplished within the time allotted for program and within the resources of the applicant</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 Evaluation</a:t>
            </a:r>
            <a:endParaRPr b="0" lang="en-US" sz="46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uccessful evaluation uses procedures to determin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Extent the program has achieved its stated objectiv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Extent the accomplishment of objectives can be attributed to progra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y Evaluation is Important</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Directs funding source on how to evaluate your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ces you to examine the clarity of objective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rocess evaluation allow you to achieve economies in the conduct of your program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an provide administrators with data for program decis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ect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an use the data to motivate supporter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assures funding sources of the diligence and sincerity of applican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owerful instrument for public relations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oposals and Funding</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the proposal is to secure outside funding</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cessary to understand the funding source</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ntact and organizational credibility are essential</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grants are made to organizations with which there has been prior contact – some meeting, or referral</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ho Should Conduct the Evaluation</a:t>
            </a:r>
            <a:endParaRPr b="0" lang="en-US" sz="3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ending on the requirements of the funding source, evaluation may be external, internal or both.</a:t>
            </a:r>
            <a:endParaRPr b="0" lang="en-US" sz="3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External</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assist in the design of the program?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evaluator have a reputation that will enhance the credibility of the application?</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be likely to align himself or herself, for better or worse, with the management who is paying the bill or with the staff whose work is being assessed?</a:t>
            </a:r>
            <a:endParaRPr b="0"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Internal</a:t>
            </a:r>
            <a:endParaRPr b="0" lang="en-US" sz="4600" spc="-1" strike="noStrike">
              <a:solidFill>
                <a:srgbClr val="ffffff"/>
              </a:solidFill>
              <a:latin typeface="Franklin Gothic Book"/>
            </a:endParaRPr>
          </a:p>
        </p:txBody>
      </p:sp>
      <p:sp>
        <p:nvSpPr>
          <p:cNvPr id="33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anyone on staff competent in the area of evalu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ir responsibilities for evaluation detract from staff’s ability to perform other required duti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ion threaten staff and reduce the accuracy of the evaluation?</a:t>
            </a:r>
            <a:endParaRPr b="0"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utions</a:t>
            </a:r>
            <a:endParaRPr b="0" lang="en-US" sz="4600" spc="-1" strike="noStrike">
              <a:solidFill>
                <a:srgbClr val="ffffff"/>
              </a:solidFill>
              <a:latin typeface="Franklin Gothic Book"/>
            </a:endParaRPr>
          </a:p>
        </p:txBody>
      </p:sp>
      <p:sp>
        <p:nvSpPr>
          <p:cNvPr id="34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ome nebulous process is mention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will be afforded by (1) weekly conference of the multidisciplinary team: (2) maintenance of comprehensive records and explicit documentations</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Some expert will take care of it all:</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ssure the success of this project, Dr. Jones of the University of Siberia will be employed to design an evaluation of the program.</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  Brevity is carried to an absurd degree:</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luation consists of the ongoing review of the data derived from the survey and examination obtained at the initial interview so that both client and program needs can be determined.</a:t>
            </a: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signing the Evaluation</a:t>
            </a: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program objectives </a:t>
            </a:r>
            <a:r>
              <a:rPr b="0" lang="en-US" sz="1800" spc="-1" strike="noStrike">
                <a:solidFill>
                  <a:srgbClr val="ffffff"/>
                </a:solidFill>
                <a:latin typeface="Arial"/>
              </a:rPr>
              <a:t>(clear and measurable)</a:t>
            </a:r>
            <a:endParaRPr b="0" lang="en-US" sz="1800" spc="-1" strike="noStrike">
              <a:solidFill>
                <a:srgbClr val="ffffff"/>
              </a:solidFill>
              <a:latin typeface="Arial"/>
            </a:endParaRPr>
          </a:p>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otential audience for the evaluation:  </a:t>
            </a:r>
            <a:r>
              <a:rPr b="0" lang="en-US" sz="1800" spc="-1" strike="noStrike">
                <a:solidFill>
                  <a:srgbClr val="ffffff"/>
                </a:solidFill>
                <a:latin typeface="Arial"/>
              </a:rPr>
              <a:t>(inside organization?  Outside organization?)</a:t>
            </a:r>
            <a:endParaRPr b="0" lang="en-US" sz="18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you conduct a process evaluation, a product evaluation, or both?</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7f09"/>
                </a:solidFill>
                <a:latin typeface="Arial"/>
              </a:rPr>
              <a:t>4</a:t>
            </a:r>
            <a:r>
              <a:rPr b="0" lang="en-US" sz="2400" spc="-1" strike="noStrike">
                <a:solidFill>
                  <a:srgbClr val="ffffff"/>
                </a:solidFill>
                <a:latin typeface="Arial"/>
              </a:rPr>
              <a:t>.  Who will conduct the evaluation?</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the evaluation include an analysis of cost-benefit or cost effectiveness?</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evaluation data be collect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on data be analyz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ve information be reported?</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Evaluation</a:t>
            </a:r>
            <a:endParaRPr b="0" lang="en-US" sz="46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product and proces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who will be performing evaluation and how evaluators will be select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evaluation criteria</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data gathering method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any test instruments or questionnaires to be us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process of data analysi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how evaluation will be used for program improvement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evaluation reports to be produced</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eveloping the Proposal Business Plan - Overview</a:t>
            </a:r>
            <a:endParaRPr b="0" lang="en-US" sz="4100" spc="-1" strike="noStrike">
              <a:solidFill>
                <a:srgbClr val="ffffff"/>
              </a:solidFill>
              <a:latin typeface="Franklin Gothic Book"/>
            </a:endParaRPr>
          </a:p>
        </p:txBody>
      </p:sp>
      <p:sp>
        <p:nvSpPr>
          <p:cNvPr id="34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ing an Effectiv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zing that the Proposal Business Plan is a Contrac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e Budget Template from the Web Sit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justments If Your Budget Is Too High</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ing a Budget Explanation</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ing a Cost Shar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Typical Cost Share Budget Categori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paring an Effective Budget</a:t>
            </a:r>
            <a:endParaRPr b="0" lang="en-US" sz="4600" spc="-1" strike="noStrike">
              <a:solidFill>
                <a:srgbClr val="ffffff"/>
              </a:solidFill>
              <a:latin typeface="Franklin Gothic Book"/>
            </a:endParaRPr>
          </a:p>
        </p:txBody>
      </p:sp>
      <p:sp>
        <p:nvSpPr>
          <p:cNvPr id="349" name=""/>
          <p:cNvSpPr txBox="1"/>
          <p:nvPr/>
        </p:nvSpPr>
        <p:spPr>
          <a:xfrm>
            <a:off x="380880" y="1523880"/>
            <a:ext cx="8229600" cy="4530960"/>
          </a:xfrm>
          <a:prstGeom prst="rect">
            <a:avLst/>
          </a:prstGeom>
          <a:noFill/>
          <a:ln w="0">
            <a:noFill/>
          </a:ln>
        </p:spPr>
        <p:txBody>
          <a:bodyPr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guidelin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content and activities described therei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your universities procedures for salary payments, fringe benefit charges, facilities &amp; administration charges (a.k.a., indirect costs, IDC, or overhead) – or work with someone who does know.</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 fully-costed budge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Recognizing that the Proposal Business Plan is a Contract</a:t>
            </a:r>
            <a:endParaRPr b="0" lang="en-US" sz="4100" spc="-1" strike="noStrike">
              <a:solidFill>
                <a:srgbClr val="ffffff"/>
              </a:solidFill>
              <a:latin typeface="Franklin Gothic Book"/>
            </a:endParaRPr>
          </a:p>
        </p:txBody>
      </p:sp>
      <p:sp>
        <p:nvSpPr>
          <p:cNvPr id="35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rrative and the business elements of the proposal, including the proposal, must be consistent with each other.</a:t>
            </a:r>
            <a:endParaRPr b="0" lang="en-US" sz="2800" spc="-1" strike="noStrike">
              <a:solidFill>
                <a:srgbClr val="ffffff"/>
              </a:solidFill>
              <a:latin typeface="Arial"/>
            </a:endParaRPr>
          </a:p>
          <a:p>
            <a:pPr marL="419040" indent="-382680">
              <a:lnSpc>
                <a:spcPct val="80000"/>
              </a:lnSpc>
              <a:spcBef>
                <a:spcPts val="700"/>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s must be developed by a consistent standard of other proposal submissions of the institution, which is increasingly important with the implementation of Cost Accounting Standards (CAS.)</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ff member assisting with the budget should be provided copies of the narrative and subsequent rev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sing the Budget Template from the Web Site</a:t>
            </a:r>
            <a:endParaRPr b="0" lang="en-US" sz="4100" spc="-1" strike="noStrike">
              <a:solidFill>
                <a:srgbClr val="ffffff"/>
              </a:solidFill>
              <a:latin typeface="Franklin Gothic Book"/>
            </a:endParaRPr>
          </a:p>
        </p:txBody>
      </p:sp>
      <p:sp>
        <p:nvSpPr>
          <p:cNvPr id="35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www.okstate.edu/education/research/researchforms.htm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1 is the multi-page budget work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2 is instru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4475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overnment Sources</a:t>
            </a:r>
            <a:endParaRPr b="0" lang="en-US" sz="4600" spc="-1" strike="noStrike">
              <a:solidFill>
                <a:srgbClr val="ffffff"/>
              </a:solidFill>
              <a:latin typeface="Franklin Gothic Book"/>
            </a:endParaRPr>
          </a:p>
        </p:txBody>
      </p:sp>
      <p:sp>
        <p:nvSpPr>
          <p:cNvPr id="262" name=""/>
          <p:cNvSpPr txBox="1"/>
          <p:nvPr/>
        </p:nvSpPr>
        <p:spPr>
          <a:xfrm>
            <a:off x="457200" y="2590920"/>
            <a:ext cx="8229600" cy="32004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llow the instruc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clarification if need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a copy of the score 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Adjustments If Your Budget Is Too High</a:t>
            </a:r>
            <a:endParaRPr b="0" lang="en-US" sz="4100" spc="-1" strike="noStrike">
              <a:solidFill>
                <a:srgbClr val="ffffff"/>
              </a:solidFill>
              <a:latin typeface="Franklin Gothic Book"/>
            </a:endParaRPr>
          </a:p>
        </p:txBody>
      </p:sp>
      <p:sp>
        <p:nvSpPr>
          <p:cNvPr id="35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e scope of the work and adjust the corresponding budget downwar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up large programs into smaller, more fundable project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st Share:  Identify supplemental funding sources and project partners.  Get sponsors for programs and events.  Determine if university funding is availabl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t agency to pre-approve a higher total funding amount.  Get this in writing – email will suffic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riting a Budget Explanation</a:t>
            </a:r>
            <a:endParaRPr b="0" lang="en-US" sz="4600" spc="-1" strike="noStrike">
              <a:solidFill>
                <a:srgbClr val="ffffff"/>
              </a:solidFill>
              <a:latin typeface="Franklin Gothic Book"/>
            </a:endParaRPr>
          </a:p>
        </p:txBody>
      </p:sp>
      <p:sp>
        <p:nvSpPr>
          <p:cNvPr id="35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parate from budget justification in the narrative, but consisten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basis of salary charges.  Salary rate can not exceed usual rate, but annual increase can be projected.  List effort level and corresponding time perio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fringe benefits are estimated, for example, historical of “negotiated” rates for various employee class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other direct costs and relationship to proposed activities, for example, printing and postage costs for survey research of “x” subjects.</a:t>
            </a:r>
            <a:endParaRPr b="0" lang="en-US" sz="2600" spc="-1" strike="noStrike">
              <a:solidFill>
                <a:srgbClr val="ffffff"/>
              </a:solidFill>
              <a:latin typeface="Arial"/>
            </a:endParaRPr>
          </a:p>
          <a:p>
            <a:pPr marL="419040" indent="-382680">
              <a:lnSpc>
                <a:spcPct val="7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reating a Cost Share Budget</a:t>
            </a:r>
            <a:endParaRPr b="0" lang="en-US" sz="4600" spc="-1" strike="noStrike">
              <a:solidFill>
                <a:srgbClr val="ffffff"/>
              </a:solidFill>
              <a:latin typeface="Franklin Gothic Book"/>
            </a:endParaRPr>
          </a:p>
        </p:txBody>
      </p:sp>
      <p:sp>
        <p:nvSpPr>
          <p:cNvPr id="359" name=""/>
          <p:cNvSpPr txBox="1"/>
          <p:nvPr/>
        </p:nvSpPr>
        <p:spPr>
          <a:xfrm>
            <a:off x="456840" y="1600200"/>
            <a:ext cx="746748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ching funds from non-federal source for changes necessary to meet project objective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allowable costs under the agency guidelines and consistent with the institution’s principles for cost for cost share valuation.</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incurred during the award period.</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verifiable from the university’s record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part contributions and volunteer services are allowable as cost share in some instanc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nderstanding Typical Cost Share Budget Categories</a:t>
            </a:r>
            <a:endParaRPr b="0" lang="en-US" sz="4100" spc="-1" strike="noStrike">
              <a:solidFill>
                <a:srgbClr val="ffffff"/>
              </a:solidFill>
              <a:latin typeface="Franklin Gothic Book"/>
            </a:endParaRPr>
          </a:p>
        </p:txBody>
      </p:sp>
      <p:sp>
        <p:nvSpPr>
          <p:cNvPr id="36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lary charges associated with release time from academic duties which is utilized for proposed activities and which is subsequently documented throughout the award period.</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inge benefit charges associated with the above sala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direct cost charges to be supported from university or other fund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associated with above catego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waived on funds requested from the spons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Funding</a:t>
            </a:r>
            <a:endParaRPr b="0" lang="en-US" sz="4600" spc="-1" strike="noStrike">
              <a:solidFill>
                <a:srgbClr val="ffffff"/>
              </a:solidFill>
              <a:latin typeface="Franklin Gothic Book"/>
            </a:endParaRPr>
          </a:p>
        </p:txBody>
      </p:sp>
      <p:sp>
        <p:nvSpPr>
          <p:cNvPr id="36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ture funding for program grants, where you describe your plan for the assumption of funding by other sources, if the program is to continue when the grant runs ou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ssible future funding</a:t>
            </a:r>
            <a:endParaRPr b="0" lang="en-US" sz="4600" spc="-1" strike="noStrike">
              <a:solidFill>
                <a:srgbClr val="ffffff"/>
              </a:solidFill>
              <a:latin typeface="Franklin Gothic Book"/>
            </a:endParaRPr>
          </a:p>
        </p:txBody>
      </p:sp>
      <p:sp>
        <p:nvSpPr>
          <p:cNvPr id="36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 absorb part of the funding?</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cipated revenue?</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party payers?</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ation money?</a:t>
            </a:r>
            <a:endParaRPr b="0"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Future Funding</a:t>
            </a:r>
            <a:endParaRPr b="0" lang="en-US" sz="4600" spc="-1" strike="noStrike">
              <a:solidFill>
                <a:srgbClr val="ffffff"/>
              </a:solidFill>
              <a:latin typeface="Franklin Gothic Book"/>
            </a:endParaRPr>
          </a:p>
        </p:txBody>
      </p:sp>
      <p:sp>
        <p:nvSpPr>
          <p:cNvPr id="3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esents a plan to provide future funding if program is to be continued</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07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tential Funding Sources</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ferences</a:t>
            </a: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Grant writing for educators: practical strategies for teachers, administrators, and staff.</a:t>
            </a:r>
            <a:r>
              <a:rPr b="0" lang="en-US" sz="2600" spc="-1" strike="noStrike">
                <a:solidFill>
                  <a:srgbClr val="ffffff"/>
                </a:solidFill>
                <a:latin typeface="Arial"/>
              </a:rPr>
              <a:t> (2004). Beverley A. Browning</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ith, N. B. &amp; Works, G. (2006). </a:t>
            </a:r>
            <a:r>
              <a:rPr b="0" i="1" lang="en-US" sz="2600" spc="-1" strike="noStrike">
                <a:solidFill>
                  <a:srgbClr val="ffffff"/>
                </a:solidFill>
                <a:latin typeface="Arial"/>
              </a:rPr>
              <a:t>The complete book of grant writing: learn to write grants like a professional. </a:t>
            </a:r>
            <a:r>
              <a:rPr b="0" lang="en-US" sz="2600" spc="-1" strike="noStrike">
                <a:solidFill>
                  <a:srgbClr val="ffffff"/>
                </a:solidFill>
                <a:latin typeface="Arial"/>
              </a:rPr>
              <a:t>Naperville, IL: Sourcebook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sites for non-profit guides: </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npguides.org/index.html</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managementhelp.org/fndrsng/np_raise/np_raise.ht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undation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will be probably be asked for a letter.  The letter is a proposal.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yourself to about three pages of narrative (delete the component headings)</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ress specific questions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mpany the proposal by a cover letter</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documents: total annual budget of past year or two, a financial statement, a few letters of support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sic Principles of Proposal Writing</a:t>
            </a:r>
            <a:endParaRPr b="0" lang="en-US" sz="3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at, Clean</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ypo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send more than one copy unless you’re aske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eak up the copy (breathing spac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extravagant/unusual packaging (bindings, etc. often just add work for those who process the proposal)</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rite your proposal in the most simple language possible</a:t>
            </a:r>
            <a:endParaRPr b="0" lang="en-US" sz="3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bureaucrates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jargon only if you must and then define your terms (your reviewers may have a different understanding)</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the clarity of your writing with friends outside of the fiel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it Brief, just long enough to clearly communicate your messag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e Positive</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t yourself “up” for the proposal writing experi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nt not a supplican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call attention to your mistak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your proposal apart from others with an innovative idea</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8:47:20Z</dcterms:created>
  <dc:creator>Oklahoma State University</dc:creator>
  <dc:description/>
  <cp:keywords/>
  <dc:language>en-US</dc:language>
  <cp:lastModifiedBy>OSU</cp:lastModifiedBy>
  <cp:lastPrinted>2004-11-12T18:50:18Z</cp:lastPrinted>
  <dcterms:modified xsi:type="dcterms:W3CDTF">2009-04-23T19:20:29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